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B79C-D526-4CC2-9975-B3A061656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2A6D-75C2-4FE7-B883-E80AEEBAB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4F46-396F-4C76-9599-C8FDBB76A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2EE7-07A3-40E5-B0CB-AC75F4E37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C088-5991-4EE6-A9E6-07DF03AFE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19D9-CC40-44B4-B741-7791AB927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E67F-54E6-45A3-90BC-ED8CD5C01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8709-DD07-4D1F-ACA8-CED94A6C0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0494-6883-4916-998B-90C195974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66AB-90B3-47D0-ACA1-7DEA8B162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2317-7F1D-43DE-A8E0-A759CCBB9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AB0E-866C-4FBC-83FB-86AFEC11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B08C-A428-4FF2-A314-03CBF7BD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17A1-ADCA-47B7-990D-1CCC42267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0A11-863B-41EF-97D4-C899496C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7D72-6BCB-492B-8AFC-1F9B8563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4116-0118-4B92-A8AB-F5BBA43A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7D16-5778-4E3A-A38F-7FD44B02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7CB9-00CE-4F14-B24C-D1440564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301B-9CAD-4BAD-A7F3-8D246A5C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BE7B-D12F-4882-885E-81B81940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B956-6BCA-4EEC-B02D-B320AD09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FFEC-35A3-47D5-94E0-034D5807D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nsformations on the Coordinate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transformers2007vv6"/>
          <p:cNvPicPr/>
          <p:nvPr/>
        </p:nvPicPr>
        <p:blipFill>
          <a:blip r:embed="rId1"/>
          <a:stretch/>
        </p:blipFill>
        <p:spPr>
          <a:xfrm>
            <a:off x="1676520" y="1459080"/>
            <a:ext cx="6629400" cy="53989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4724280" y="2819520"/>
            <a:ext cx="4191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447920" y="1981080"/>
            <a:ext cx="662940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ff33"/>
                </a:solidFill>
                <a:latin typeface="Comic Sans MS"/>
              </a:rPr>
              <a:t>WHAT IS THAT?</a:t>
            </a:r>
            <a:r>
              <a:rPr b="0" lang="en-US" sz="4400" spc="-1" strike="noStrike">
                <a:solidFill>
                  <a:srgbClr val="66ff33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66ff33"/>
                </a:solidFill>
                <a:latin typeface="Comic Sans MS"/>
              </a:rPr>
              <a:t>TRANSFORM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905120" y="1905120"/>
            <a:ext cx="5790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Arial"/>
              </a:rPr>
              <a:t>I can tell you what it’s not!!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7000"/>
                            </p:stCondLst>
                            <p:childTnLst>
                              <p:par>
                                <p:cTn id="3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" dur="3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ransformations on the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ordinate Pla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96284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Example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93600" y="1219320"/>
            <a:ext cx="905040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488880" y="380880"/>
            <a:ext cx="8140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nsformations on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ordinate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76312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2008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618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iding a figure in a straight line is called a </a:t>
            </a: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transl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MCj01993650000[1]"/>
          <p:cNvPicPr/>
          <p:nvPr/>
        </p:nvPicPr>
        <p:blipFill>
          <a:blip r:embed="rId1"/>
          <a:stretch/>
        </p:blipFill>
        <p:spPr>
          <a:xfrm>
            <a:off x="1143000" y="3581280"/>
            <a:ext cx="28940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983 -0.00855 L 0.43351 -0.00855 E">
                                      <p:cBhvr>
                                        <p:cTn id="4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ipping a figure over a line is called a </a:t>
            </a: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refle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MCj01993650000[1]"/>
          <p:cNvPicPr/>
          <p:nvPr/>
        </p:nvPicPr>
        <p:blipFill>
          <a:blip r:embed="rId1"/>
          <a:stretch/>
        </p:blipFill>
        <p:spPr>
          <a:xfrm>
            <a:off x="609480" y="3276720"/>
            <a:ext cx="3733920" cy="1760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MCj01993650000[1]"/>
          <p:cNvPicPr/>
          <p:nvPr/>
        </p:nvPicPr>
        <p:blipFill>
          <a:blip r:embed="rId2"/>
          <a:stretch/>
        </p:blipFill>
        <p:spPr>
          <a:xfrm flipH="1">
            <a:off x="4648320" y="3276720"/>
            <a:ext cx="396216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761760"/>
            <a:ext cx="8839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st like a baby seeing themselves in a mirror, the image of a triangle will b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reflect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en it crosses another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MCj01993650000[1]"/>
          <p:cNvPicPr/>
          <p:nvPr/>
        </p:nvPicPr>
        <p:blipFill>
          <a:blip r:embed="rId1"/>
          <a:stretch/>
        </p:blipFill>
        <p:spPr>
          <a:xfrm>
            <a:off x="304920" y="5097600"/>
            <a:ext cx="3733560" cy="1760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MCj01993650000[1]"/>
          <p:cNvPicPr/>
          <p:nvPr/>
        </p:nvPicPr>
        <p:blipFill>
          <a:blip r:embed="rId2"/>
          <a:stretch/>
        </p:blipFill>
        <p:spPr>
          <a:xfrm flipH="1">
            <a:off x="4952520" y="5097600"/>
            <a:ext cx="3962520" cy="1760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mirror"/>
          <p:cNvPicPr/>
          <p:nvPr/>
        </p:nvPicPr>
        <p:blipFill>
          <a:blip r:embed="rId3"/>
          <a:stretch/>
        </p:blipFill>
        <p:spPr>
          <a:xfrm>
            <a:off x="2133720" y="2354400"/>
            <a:ext cx="48765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ing a figure around a point or vertex is called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rot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MCj01993650000[1]"/>
          <p:cNvPicPr/>
          <p:nvPr/>
        </p:nvPicPr>
        <p:blipFill>
          <a:blip r:embed="rId1"/>
          <a:stretch/>
        </p:blipFill>
        <p:spPr>
          <a:xfrm>
            <a:off x="533520" y="3797280"/>
            <a:ext cx="4265640" cy="2646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MCj01993650000[1]"/>
          <p:cNvPicPr/>
          <p:nvPr/>
        </p:nvPicPr>
        <p:blipFill>
          <a:blip r:embed="rId2"/>
          <a:stretch/>
        </p:blipFill>
        <p:spPr>
          <a:xfrm rot="5400000">
            <a:off x="3848040" y="3314880"/>
            <a:ext cx="36576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2780717198_100f326da0"/>
          <p:cNvPicPr/>
          <p:nvPr/>
        </p:nvPicPr>
        <p:blipFill>
          <a:blip r:embed="rId1"/>
          <a:stretch/>
        </p:blipFill>
        <p:spPr>
          <a:xfrm>
            <a:off x="155520" y="460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tilt_a_whirl"/>
          <p:cNvPicPr/>
          <p:nvPr/>
        </p:nvPicPr>
        <p:blipFill>
          <a:blip r:embed="rId2"/>
          <a:stretch/>
        </p:blipFill>
        <p:spPr>
          <a:xfrm>
            <a:off x="4514760" y="685800"/>
            <a:ext cx="4629240" cy="3306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merry-go-round"/>
          <p:cNvPicPr/>
          <p:nvPr/>
        </p:nvPicPr>
        <p:blipFill>
          <a:blip r:embed="rId3"/>
          <a:stretch/>
        </p:blipFill>
        <p:spPr>
          <a:xfrm>
            <a:off x="838080" y="2743200"/>
            <a:ext cx="4610160" cy="3765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2"/>
          <p:cNvSpPr/>
          <p:nvPr/>
        </p:nvSpPr>
        <p:spPr>
          <a:xfrm>
            <a:off x="5562720" y="449568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33"/>
                </a:solidFill>
                <a:latin typeface="Comic Sans MS"/>
              </a:rPr>
              <a:t>Ro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ill change when you transform a figure on the coordinate pla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1447920" y="281952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ts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838080" y="4038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ill not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752480" y="52578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ts size and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hree ways can you transform a figure on a coordinate pla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447920" y="281952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ranslate, rotate, or refl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0773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ave a triangle on a coordinate plane.  I plan to transform it by translating it and reflecting it.  How will the triangles be the s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609480" y="3352680"/>
            <a:ext cx="853452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oth transformations result in a new congruent triang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translations slides the new figure to a new lo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reflection flips the new triangle over a line to a new lo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5:38:55Z</dcterms:created>
  <dc:creator>bhopkins</dc:creator>
  <dc:description/>
  <dc:language>en-US</dc:language>
  <cp:lastModifiedBy>Owner</cp:lastModifiedBy>
  <dcterms:modified xsi:type="dcterms:W3CDTF">2010-11-28T05:30:28Z</dcterms:modified>
  <cp:revision>11</cp:revision>
  <dc:subject/>
  <dc:title>Transformations on the Coordinate Plane</dc:title>
</cp:coreProperties>
</file>